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7D91A-7E34-4AA8-8D7A-8DC709EDE2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35D0E6-B108-4003-A3A3-0C9EA49C98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75EDB5-1E3A-44E5-868D-385362C80E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698CD1-F151-490F-AEB5-3AD5481A44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A786CC-1321-4D48-9CF5-6D3F6FAF0B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AEF914-B570-4005-B251-4C1A9AC8C8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8DADFD-21C7-45F7-950B-E36FBCD9B7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1B2F24-78CD-43E4-9F66-03E39DFE41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1317EC-BD9A-4847-8372-71E9112D49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A133F2-40A2-4ACB-AD50-7093BD6AF2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FFF150-537B-461E-A747-23E701A846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CCF355-1231-4B0E-94E5-BA84D662EF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F5AEFD-8FE9-4786-9C34-FAF74B70DC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AED0D-F8DD-4262-852A-28986B231033}" type="datetime3">
              <a:rPr b="0" lang="en-US" sz="1400" spc="-1" strike="noStrike">
                <a:solidFill>
                  <a:srgbClr val="ffffff"/>
                </a:solidFill>
                <a:latin typeface="Times New Roman"/>
              </a:rPr>
              <a:t>July 28,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B0F32-B947-4ADD-B45E-453B1742D12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9AB31D9C-02A9-4EDB-8ECB-FF22C4FB40A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D0451620-B5F9-4A0D-AFB7-8D1D47A849E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FBB653E1-31AB-489C-A9AA-213E4BD2DA9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AE76195E-0900-409F-ABD4-E4AF667238B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1CC6420F-F6D1-4F21-B131-8BB6412579F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F7F690FB-6B96-4BA4-8897-20D00BD5DAAE}"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9EF5719F-A30E-491B-9DC8-89B936724F1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7D3E46BE-CABA-44A1-B07F-31619DFE54D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9CF7C189-E2C3-479D-A30D-B92B24E5165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F32EEEAE-F945-4E9D-B8F6-E35E635B034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65DB212F-3F64-47C9-A7FC-95336C90172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7D5A0AB4-0C66-474E-B889-DBA6C0F6858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CD03150A-B671-4AC0-8495-235F8367BB3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C877B7D9-FAF3-4C29-930E-60916C8E3D3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