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439726"/>
        <c:axId val="93018114"/>
      </c:barChart>
      <c:catAx>
        <c:axId val="204397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18114"/>
        <c:crosses val="autoZero"/>
        <c:auto val="1"/>
        <c:lblAlgn val="ctr"/>
        <c:lblOffset val="100"/>
        <c:noMultiLvlLbl val="0"/>
      </c:catAx>
      <c:valAx>
        <c:axId val="93018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397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364-B529-4056-8009-85859FFB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F3A6-8254-45B7-BDE8-10102071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B9B-F348-4B64-937D-17573328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458-B558-45E9-A2C9-A368C88B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7E37-8355-468E-BE94-692D82CD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88B-8847-4732-8FDA-B0ED7EBD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A551-FF27-472D-B403-FAB81F48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9CD1-FD07-467B-80FF-0E0B5F96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F4B-57BF-4BCF-8477-7194E9BE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FB93-6A0E-4273-9E3C-CD247679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31B5-C239-4A3B-B434-44CDC7CD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B5C-2E5D-41D6-A5DF-C737AC95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5AE8D-F486-4124-904C-764F0C3393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