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28303"/>
        <c:axId val="81691342"/>
      </c:barChart>
      <c:catAx>
        <c:axId val="26028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91342"/>
        <c:crosses val="autoZero"/>
        <c:auto val="1"/>
        <c:lblAlgn val="ctr"/>
        <c:lblOffset val="100"/>
        <c:noMultiLvlLbl val="0"/>
      </c:catAx>
      <c:valAx>
        <c:axId val="81691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28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A54-FE5A-4480-B08B-D6C9E30D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253-926D-4D9C-A900-5088A4B9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C42-46E7-4F4A-A1C7-EA60C049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411-C610-4BD8-8004-54D88B70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817-4E45-4722-90BA-FCF2110F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937-2D97-4C41-A973-973D15B8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8C4-78BA-47FF-AC6E-18CDBB42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53C-2164-4922-85D5-CA93801A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186-E973-4581-9C33-33C33FC2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AF0-D65B-455F-9C86-768A1075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1AE-3B6A-403B-A06C-8B192800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F01-7E28-4362-90F4-CA6B1726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E8882-D2E5-4117-9488-F8673CB5F5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