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19757"/>
        <c:axId val="86114352"/>
      </c:barChart>
      <c:catAx>
        <c:axId val="728197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14352"/>
        <c:crosses val="autoZero"/>
        <c:auto val="1"/>
        <c:lblAlgn val="ctr"/>
        <c:lblOffset val="100"/>
        <c:noMultiLvlLbl val="0"/>
      </c:catAx>
      <c:valAx>
        <c:axId val="86114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197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EBE7-7A7D-46AC-B046-DE821B78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D9C-1A32-4585-9F6A-45F0E8FD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7E0-6DC8-4CF0-AC3E-B4AF137F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14E-005D-46C4-883D-4C97EA40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DC0-6E13-4CB5-9052-3DE0B303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7EE-80D0-4F0F-B9E3-432AFFAF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CD47-6F70-43CE-9BEF-E5C5047E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5FC-C0E0-45E0-9776-06B865BB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C56B-1519-4373-8F74-3C350685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BCB6-5629-49B3-8044-7A5AE588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005-D4DC-4043-8CA8-2E935C91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484-B34E-4B72-A1A5-492E87E3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BF355-9282-4CB5-9BA8-DF4C275207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