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34378"/>
        <c:axId val="64278385"/>
      </c:barChart>
      <c:catAx>
        <c:axId val="72534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78385"/>
        <c:crosses val="autoZero"/>
        <c:auto val="1"/>
        <c:lblAlgn val="ctr"/>
        <c:lblOffset val="100"/>
        <c:noMultiLvlLbl val="0"/>
      </c:catAx>
      <c:valAx>
        <c:axId val="64278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34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648-B086-4816-8F6A-978E2AC6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409-DF3D-4C9A-8D2B-929C7322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845-7C60-4063-B805-030B4491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2E7-6F83-4CD4-A541-2C149968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172-B327-4E2B-8E9C-D091E74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E1C-19CA-4C3B-86A2-9633F20C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404-B85C-4F1E-AFB2-A86374C6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A32-F221-489E-A3DD-3281648E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527-8579-409E-A5E5-6964DECA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541-52D3-45B7-B666-A242DB9C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9BF-4226-44D5-90A6-74934E7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FE5-C849-409E-835B-19B776F6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270CF-BB05-4FE4-A83B-078552004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