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04478"/>
        <c:axId val="55640905"/>
      </c:barChart>
      <c:catAx>
        <c:axId val="33204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40905"/>
        <c:crosses val="autoZero"/>
        <c:auto val="1"/>
        <c:lblAlgn val="ctr"/>
        <c:lblOffset val="100"/>
        <c:noMultiLvlLbl val="0"/>
      </c:catAx>
      <c:valAx>
        <c:axId val="55640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04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AA8-D0CF-4260-920C-22DD2D36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6AA-72FD-40AA-B9BD-151424E8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20E-7F82-4639-8CAE-8F08B753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94D-5875-4C01-A7A2-66039E03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A2D-9C6C-427F-B5F1-411EDC1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9D9-07AB-4ED6-9D65-7D50AED4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B5E-85E7-4B0C-89A9-1EC5954B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E4A-E69B-43AE-9E62-BAAF8BD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913-AEAA-4389-B55C-94763F7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C10-AA2C-4717-A48D-267C0513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96E-EAAD-4A97-A87F-63901DC0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193-4E6B-4548-BEB2-DBBF6E9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7B61A-79DA-498A-8189-0DE156D28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