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10603"/>
        <c:axId val="10362067"/>
      </c:barChart>
      <c:catAx>
        <c:axId val="38310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2067"/>
        <c:crosses val="autoZero"/>
        <c:auto val="1"/>
        <c:lblAlgn val="ctr"/>
        <c:lblOffset val="100"/>
        <c:noMultiLvlLbl val="0"/>
      </c:catAx>
      <c:valAx>
        <c:axId val="10362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10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DA2-2222-4DD5-9AAB-8B90CF33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21F-C15E-498F-AD22-836062E0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D01-B7C3-4C12-8ABF-1E3D18C2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EEE-B43E-47C8-AC75-01ECB5F2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6BD-6735-4B5D-B8A5-A9469F8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146-2856-4812-9E59-335C6386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88C-FA4E-4465-ABD2-7E1DB313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BC0-6036-4987-8837-74DB88F9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F5F-23A4-4F30-8F1A-0A58917D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F7E-2131-4ABB-8ECD-EB9942D3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40B-394D-4FAE-AB97-FCABD5C3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157-03F2-4BAE-9F74-0C3B231F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A843A-BCE7-4D77-A06F-A5E1EA12AE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