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679454"/>
        <c:axId val="97235207"/>
      </c:barChart>
      <c:catAx>
        <c:axId val="186794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235207"/>
        <c:crosses val="autoZero"/>
        <c:auto val="1"/>
        <c:lblAlgn val="ctr"/>
        <c:lblOffset val="100"/>
        <c:noMultiLvlLbl val="0"/>
      </c:catAx>
      <c:valAx>
        <c:axId val="972352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6794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8D27-FF26-4A05-8D25-3DA62555C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5377-9206-4EAC-8DA0-C49209AC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05A7-7747-4485-895C-6C004DBE4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6B1D-58B3-454F-BF99-355486D13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DCB2-0EAF-4779-AB2B-08D7274F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4D06-7C16-45A5-8459-E57F23B3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D86B-8C34-4678-B807-021ADDA5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002D-B3D1-4AC2-AE1F-993766D0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FB68-8961-4189-B5FD-A985B275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2975-2DD2-426A-AE59-6CACA73F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7AF6-BBDA-467F-95E4-0889F9D8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C2D4-DE2B-456E-B614-2843FDD8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5CCE4D-7A69-4B36-9051-947B4A0324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