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79606"/>
        <c:axId val="1065167"/>
      </c:barChart>
      <c:catAx>
        <c:axId val="209796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5167"/>
        <c:crosses val="autoZero"/>
        <c:auto val="1"/>
        <c:lblAlgn val="ctr"/>
        <c:lblOffset val="100"/>
        <c:noMultiLvlLbl val="0"/>
      </c:catAx>
      <c:valAx>
        <c:axId val="10651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796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D2B6-CB3C-46C5-B168-2589F3D6A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EF9-815A-4637-BDF6-65DAAAA1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05AB-1F3C-4984-A674-FFDB106F4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818C-8CC1-4D37-84D2-AF1B13151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0306F-AF89-4F9F-8FF3-B0E42F23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7BC2B-FCF1-484F-B0C8-7E7F6954B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90C8-8EFD-4399-8DE3-3A8ACD452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8697-914E-4216-B623-BF5C085BA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8755-90B0-4D1F-A66D-34385B91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B1079-A08E-4B24-A3A3-9277387B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1586-EAAD-4DD2-A381-B9C0807A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C47DC-8D23-483B-9526-D32315D39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83F42D-82FF-4445-A545-A43447D4843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