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61766"/>
        <c:axId val="67924671"/>
      </c:barChart>
      <c:catAx>
        <c:axId val="144617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24671"/>
        <c:crosses val="autoZero"/>
        <c:auto val="1"/>
        <c:lblAlgn val="ctr"/>
        <c:lblOffset val="100"/>
        <c:noMultiLvlLbl val="0"/>
      </c:catAx>
      <c:valAx>
        <c:axId val="67924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617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C8D-F420-4CB2-AF86-C73D6F1C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DC0-D8FD-4EC0-BBDD-9BB7ABEE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C6A-8298-422E-9190-6F606401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305-4FD3-499A-B3FE-C13DD0AD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27B-6530-4D09-B05C-D4C33ADF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58C-C6FF-4748-98F7-AB83F191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E26-760C-4C7D-A936-56ADF0A6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C2A-0AFD-4C99-90A8-BB18D66D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187-D665-4002-8E4B-A21E1528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700C-B327-4440-9EBA-1E33D5CB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B0EE-9DDA-416B-8006-E6A580DF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5F2C-3905-4506-96E7-80EB1177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EB47E-1FFE-4EF2-8B09-44A1B5248B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