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83841"/>
        <c:axId val="81248039"/>
      </c:barChart>
      <c:catAx>
        <c:axId val="745838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48039"/>
        <c:crosses val="autoZero"/>
        <c:auto val="1"/>
        <c:lblAlgn val="ctr"/>
        <c:lblOffset val="100"/>
        <c:noMultiLvlLbl val="0"/>
      </c:catAx>
      <c:valAx>
        <c:axId val="81248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838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B47B-9778-4350-87C4-85A1F436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6A4-6B46-4E4B-9606-2EED9A9D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DCF0-AB1A-4182-A600-92036B77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A35-4BFD-4690-AEDB-34B1E541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29F6-A032-447B-8C57-9F648525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B40-67F9-4BF6-855C-94B9678E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214-5CA1-4E80-9F43-D272384A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573E-45A7-4CE1-9B26-6CCCFE13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EC71-E333-43AB-AE68-BF1EEC31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8C9-F6F8-4FAF-B55E-B5E45AB9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866-EA23-4B48-9777-E54ECA7F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1AE-770D-44B3-A237-312E0E73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0B6E1-D70C-4F96-A5EE-B5673CAFBB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