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19144"/>
        <c:axId val="41846372"/>
      </c:barChart>
      <c:catAx>
        <c:axId val="52419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46372"/>
        <c:crosses val="autoZero"/>
        <c:auto val="1"/>
        <c:lblAlgn val="ctr"/>
        <c:lblOffset val="100"/>
        <c:noMultiLvlLbl val="0"/>
      </c:catAx>
      <c:valAx>
        <c:axId val="41846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9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44C-5276-49AE-B22D-9304475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772-507A-4C72-8C1A-59738C1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91A-72E9-4CFE-A7B9-E2BE9A01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446-E813-4002-89F4-D368C0D6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560-5BBB-4F2E-B619-7A0CAE5C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2A4-31DF-492F-A837-37927C6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F71-3F0C-4903-BF77-E5309D2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2B6-C271-46A4-87EF-79426CC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F28-A703-49A3-B109-B5F750FE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05D-C231-4725-9924-5658CD8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3A4-0400-4DAE-8633-56A4405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7DF-7330-48A0-93D5-B0828F2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E7CC8-37D0-42D9-80FE-108EF356C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