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39027"/>
        <c:axId val="23163424"/>
      </c:barChart>
      <c:catAx>
        <c:axId val="16539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63424"/>
        <c:crosses val="autoZero"/>
        <c:auto val="1"/>
        <c:lblAlgn val="ctr"/>
        <c:lblOffset val="100"/>
        <c:noMultiLvlLbl val="0"/>
      </c:catAx>
      <c:valAx>
        <c:axId val="23163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9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EC7-DC65-45F3-BB1C-DEF0AC4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BD9-665D-482D-B778-94F42891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541-F621-4079-9097-D7A46418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512-2CD4-4838-8F37-DFF8F498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117-8D4E-4190-8BBF-98E114B9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5F1-73C3-4E38-ABD6-1A8200CE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64D-48C7-479B-9406-8D1B0E0E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909-85A1-4836-8381-B98B7EE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784-EE79-4CB7-B4BE-4B73BFE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166-D9CB-4BD4-B972-17A62BC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6D2-ADB5-475B-B91C-0FE034D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3DC-C2FF-4D01-99EC-AF978AB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76894-1C5D-49B8-965E-0FF5FBB92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