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80607"/>
        <c:axId val="64986980"/>
      </c:barChart>
      <c:catAx>
        <c:axId val="96880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86980"/>
        <c:crosses val="autoZero"/>
        <c:auto val="1"/>
        <c:lblAlgn val="ctr"/>
        <c:lblOffset val="100"/>
        <c:noMultiLvlLbl val="0"/>
      </c:catAx>
      <c:valAx>
        <c:axId val="649869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80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11E-5A8F-4224-9881-A01059ED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955-1E95-4E8A-904F-97970B31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37D-B593-492C-9BEC-9789DD57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072-CC8F-4485-A6A0-5D8DA10A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CB4-6D21-4260-8572-2880696E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C1D-15AB-4785-A791-91E362EC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5CF-E25A-48C7-8987-1CDC400F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315-9E29-4116-8C84-C33FE74F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E10-5E71-41FD-BE3A-273F2F15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DE0-8A44-4BC5-9CF3-C354F96D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07E-ED50-481B-9042-6DF5F355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CCB-F94A-43E7-868A-DEB22AF8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F1942-95CA-4F40-8D27-94B65E7EFA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