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84839"/>
        <c:axId val="63255692"/>
      </c:barChart>
      <c:catAx>
        <c:axId val="42184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55692"/>
        <c:crosses val="autoZero"/>
        <c:auto val="1"/>
        <c:lblAlgn val="ctr"/>
        <c:lblOffset val="100"/>
        <c:noMultiLvlLbl val="0"/>
      </c:catAx>
      <c:valAx>
        <c:axId val="63255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84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275-9215-4C73-A601-CC7CF61C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62F-AAE9-4831-9EAA-E5A9F774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184-1DA1-4740-985B-22672E01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62E-FD30-441E-80C9-1CE3E9FE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C18-5B3B-4962-9164-3086DBAE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D24-1F01-4F44-B88D-0D465547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93D-09CE-4D8F-B493-BE1C5488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878-91CB-4DC6-9B03-E485FAD7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B4A-8737-4D2F-9511-4B71C4B7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A3F-E6BF-47D9-A9AB-075FFC01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0B3-110D-4645-A8BD-9BE38235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EDC-826D-4AF6-B3EB-3826A415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E0B6D-5A27-4A0A-8655-1CBF55BA8C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