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50332"/>
        <c:axId val="71558651"/>
      </c:barChart>
      <c:catAx>
        <c:axId val="84050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58651"/>
        <c:crosses val="autoZero"/>
        <c:auto val="1"/>
        <c:lblAlgn val="ctr"/>
        <c:lblOffset val="100"/>
        <c:noMultiLvlLbl val="0"/>
      </c:catAx>
      <c:valAx>
        <c:axId val="71558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0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466-6256-45D5-B4F2-84A08AC8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CCD-5153-493D-A0A4-FECB2C9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B57-2387-4C7F-8F62-9030DFD9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8E8-4DDF-414D-BBC6-E32BCB8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FF-9D59-4A8D-810E-E8D5B09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9A6-81A0-4629-810B-56F91077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0C9-06EC-4A3F-ADC7-4517B652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179-4DB2-4673-A811-4FD67974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123-3776-4C0A-B11E-3D17523F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074-FADB-46B5-8C8E-16299F1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F04-E15A-43F9-AF0B-CA81E85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EE8-9A6B-4E47-B813-F139B92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CF3F1-C112-4C69-9236-CC8BB572AC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