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917891"/>
        <c:axId val="89360682"/>
      </c:barChart>
      <c:catAx>
        <c:axId val="399178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60682"/>
        <c:crosses val="autoZero"/>
        <c:auto val="1"/>
        <c:lblAlgn val="ctr"/>
        <c:lblOffset val="100"/>
        <c:noMultiLvlLbl val="0"/>
      </c:catAx>
      <c:valAx>
        <c:axId val="893606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178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7F45-45D7-443C-B3F0-DBF6F472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660A-1A13-4F47-9EF7-B4483113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FD24-51F6-466C-9C24-AB71B6CB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A4A7-979C-4F18-B7E4-E9885AAD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987F-429A-4629-8A12-DEDBFB64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481E-B0F6-4FC6-846C-F1164FE7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04E7-2212-42CE-9BA6-646F5388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7B12-ECF9-46AC-B3D0-12FBF352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B934-EFA7-4247-B316-C3BCBD1E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207D-C90D-4FE3-B3DC-FED1283D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73F2-C90B-432E-B9E5-5E54780C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B0AA-B432-4B88-8815-EBE524DB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04FA1-F6E7-4151-9491-4A74FD0860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