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0937"/>
        <c:axId val="17349053"/>
      </c:barChart>
      <c:catAx>
        <c:axId val="48860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9053"/>
        <c:crosses val="autoZero"/>
        <c:auto val="1"/>
        <c:lblAlgn val="ctr"/>
        <c:lblOffset val="100"/>
        <c:noMultiLvlLbl val="0"/>
      </c:catAx>
      <c:valAx>
        <c:axId val="17349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0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00F-0951-479D-A316-656A8D62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62A-1959-467B-89DC-00CA575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D2F-4580-4E06-A345-C87A964E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4DB-E4C2-4281-8D05-7388FC8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E74-BDD1-43B1-92CA-FE0F00DF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E8A-75D2-482D-A653-3CE60D6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854-C2B3-40BD-82F4-F5CF0BD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532-64A8-42D9-8260-2AFC8B4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3D6-DCF4-408F-9468-CEBA1BA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199-475F-427E-89AA-BE008FEF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110-0C58-4A9B-B263-159B2EE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7AE-6413-4353-B9BC-AFF6C13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76A2F-A1C6-448B-B876-69161426D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