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36158"/>
        <c:axId val="83746073"/>
      </c:barChart>
      <c:catAx>
        <c:axId val="86361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746073"/>
        <c:crosses val="autoZero"/>
        <c:auto val="1"/>
        <c:lblAlgn val="ctr"/>
        <c:lblOffset val="100"/>
        <c:noMultiLvlLbl val="0"/>
      </c:catAx>
      <c:valAx>
        <c:axId val="837460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361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8564-352D-46AF-AFB1-0DEE4FED4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1426-F5D4-4757-930F-66FAEE491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60B9-5CCC-4821-A883-499BB791E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9F89-A62D-4EBB-8B80-4E5854533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72EB-88C6-4D91-B814-84648A554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3BC0-4126-4F57-8C22-B4E66D57D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47DB-D71A-4A34-8FDF-4C1885099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53E2-2F43-43AF-8443-D3907E86B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BAFA-6190-4ABC-B40C-0CDC96488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B9A1-A01F-41AC-A7C4-819885692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873A-3308-49C6-9686-561E025CD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258D-B565-40D5-B694-BB8C07DB7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DA45CE-9365-4AAF-B10A-A5B37331AD8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