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164736"/>
        <c:axId val="69378251"/>
      </c:barChart>
      <c:catAx>
        <c:axId val="561647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78251"/>
        <c:crosses val="autoZero"/>
        <c:auto val="1"/>
        <c:lblAlgn val="ctr"/>
        <c:lblOffset val="100"/>
        <c:noMultiLvlLbl val="0"/>
      </c:catAx>
      <c:valAx>
        <c:axId val="693782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647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8D9A-9D67-48B6-AD10-34796507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BC4E-782D-4BFF-BFEE-1185BCD5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F58E-84A2-49B6-BC2C-695BF9EF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6E73-414A-442C-A7CF-A1D82520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5269-3F08-4F5F-8931-85FEA1FF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881B-224B-4F50-B053-30F0F924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37BD-4AC8-4D2E-95DB-2CF68C89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C0EF-AA32-402F-BEC6-CB7DC22B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8F19-AC06-45D6-9697-F315C990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0811-7370-45B3-A6C6-E69D174B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AE50-A64D-4BC9-B448-269C488B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319C-7E11-45CF-BD68-47705ECD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80E26-A3A5-4521-B9B4-ACD12C8F37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