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608225"/>
        <c:axId val="74868343"/>
      </c:barChart>
      <c:catAx>
        <c:axId val="676082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868343"/>
        <c:crosses val="autoZero"/>
        <c:auto val="1"/>
        <c:lblAlgn val="ctr"/>
        <c:lblOffset val="100"/>
        <c:noMultiLvlLbl val="0"/>
      </c:catAx>
      <c:valAx>
        <c:axId val="748683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6082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CE13-C92A-45D2-8F99-3FD75CF6B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554F-34D1-41EF-AF03-7D08F7BDE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F4F7-A988-46C3-8C0F-D0544F2D2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05B9-B852-43F0-B052-F87FAC9DF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C23C-C2CD-4309-B7AA-9C6F3BF60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B9DB-5F57-4C1B-9405-8F64DE184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B9BD-E9E3-4BBD-A01F-BC07E69DE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0B29-ABA0-4506-A286-1682195DC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C06E-1A41-47C4-851E-6E7E191A4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550B-7DA2-4CD6-88E6-D7DCBD9D7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0155-1B8A-4147-87A1-506F757A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6F65-63E9-452B-9DB3-91D7D407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B88281-4111-4F2E-829E-628682E877D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