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1115"/>
        <c:axId val="22698902"/>
      </c:barChart>
      <c:catAx>
        <c:axId val="7751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98902"/>
        <c:crosses val="autoZero"/>
        <c:auto val="1"/>
        <c:lblAlgn val="ctr"/>
        <c:lblOffset val="100"/>
        <c:noMultiLvlLbl val="0"/>
      </c:catAx>
      <c:valAx>
        <c:axId val="22698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1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CF9-9EE7-4FEE-8CFC-F9785472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DE6-6A7C-4336-A20B-2064ED07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37-41D1-4EDB-A36B-E287B617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78F-1227-46F7-8737-16B2A6EF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308-163A-4E71-BBD9-B95E708A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F15-73D3-4C7B-B8C0-76564FDA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B1F-FF4F-45DD-BD8E-8647A4DB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C7C-2657-468B-B489-9E38571F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0ED-1CEA-4825-87EA-8E416D0F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C8D-F0A1-4327-91A1-AE02E59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622-1A77-4042-83EC-C6D54A1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D9D-9D37-4953-BD74-61F3DE5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4DB60-B7F7-493C-82CF-1EA000F9F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