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70257"/>
        <c:axId val="64087616"/>
      </c:barChart>
      <c:catAx>
        <c:axId val="21870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87616"/>
        <c:crosses val="autoZero"/>
        <c:auto val="1"/>
        <c:lblAlgn val="ctr"/>
        <c:lblOffset val="100"/>
        <c:noMultiLvlLbl val="0"/>
      </c:catAx>
      <c:valAx>
        <c:axId val="640876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70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AA1-5279-4949-BA13-F9C66545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608-C5D7-4C2D-B6F4-87AE726C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510-54B6-447A-A22E-8FF0CCB9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F86-35BC-4C47-8D98-4F98E75C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E33B-10CE-41F7-9E0C-3655098D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663-780E-42FD-BF90-E01126BA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FF7-E239-4EE6-8A52-F4F4A960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84F-859C-4F7E-A487-22E0D0FC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7CC-0A48-4BC2-BC1F-8C4E2F19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67F-F7A5-4A6F-8C6E-1AC1209E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13D-C0D8-423E-B14F-AB2AEA2D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3C68-EC0C-4B50-B460-F6B98CA9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11C03-33E9-4C7D-AE7F-EC649C8B3D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