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027335"/>
        <c:axId val="16979503"/>
      </c:barChart>
      <c:catAx>
        <c:axId val="590273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79503"/>
        <c:crosses val="autoZero"/>
        <c:auto val="1"/>
        <c:lblAlgn val="ctr"/>
        <c:lblOffset val="100"/>
        <c:noMultiLvlLbl val="0"/>
      </c:catAx>
      <c:valAx>
        <c:axId val="169795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273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0CB6-4E6E-47FD-B681-946A4E6BC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0A88-8FE8-4826-8B09-E931A057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45D4-E562-4E60-B688-7B0E41C39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AB0A-DBF1-4A4D-BD57-B01D4C06B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B79A-FE8A-4566-9B62-0F863780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EB09-8194-4A23-8F1D-1F4896C5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8A26-5911-401D-9691-890EAF4D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84C4-C585-4364-BFAC-859D22E9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F726-7A29-436B-8772-12F3DCAB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9C1D-6046-449A-A07D-5CFE7965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6D9D-F297-41C1-B50A-6CA03023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778F-032D-4025-A2E2-6BA3A356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0C560-FA75-421D-A850-06ADDB1142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