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59537"/>
        <c:axId val="39328345"/>
      </c:barChart>
      <c:catAx>
        <c:axId val="76859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28345"/>
        <c:crosses val="autoZero"/>
        <c:auto val="1"/>
        <c:lblAlgn val="ctr"/>
        <c:lblOffset val="100"/>
        <c:noMultiLvlLbl val="0"/>
      </c:catAx>
      <c:valAx>
        <c:axId val="39328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59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877-650F-4063-AE7E-658C6233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593-0024-4D2A-9313-23A68E79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24A-0544-4E13-8369-0D28FC43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58F-1886-447D-BEEA-314332ED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DCB-4211-43F6-B69F-4A4DCFAD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15A-F4F2-4BEF-9009-B8EE0F8E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829-935D-434A-B6CC-1B6E882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97A-5DE3-4AB7-9425-8CF2AD3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52E-078F-4DF5-A009-8121F583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A82-47A1-4921-BF9E-32D9098C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F2E-2B91-42ED-B889-A0AE1B81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ADC-1626-4071-89A9-F4126AEB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74B38-B966-4E94-82CE-1B7E996A58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