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27670"/>
        <c:axId val="23703049"/>
      </c:barChart>
      <c:catAx>
        <c:axId val="16427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03049"/>
        <c:crosses val="autoZero"/>
        <c:auto val="1"/>
        <c:lblAlgn val="ctr"/>
        <c:lblOffset val="100"/>
        <c:noMultiLvlLbl val="0"/>
      </c:catAx>
      <c:valAx>
        <c:axId val="23703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27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161-48CA-40F1-9C02-11FE8521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C32-DC03-475A-8971-732DCC09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532-4AB0-4510-B645-AFD4C99F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3CC-DF08-4B75-AF74-7C806B4C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89D3-BBCD-4FF7-ADEE-CCF1237C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98E-187C-4B7C-92C1-99B8FC61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BB7B-F1DE-4BA0-B654-43BD6996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86E-02E7-4D97-A713-9CB5E61A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7264-3E3C-4EEA-85DB-C3A602A7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DD4-C173-4F8A-92B8-16B621B8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DE6-3A11-4CE2-AEA2-42E3E63C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724-4C73-449F-9582-EFF797C9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737BA-15BB-439F-852A-AA71C10F03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