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11299"/>
        <c:axId val="63856220"/>
      </c:barChart>
      <c:catAx>
        <c:axId val="67311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56220"/>
        <c:crosses val="autoZero"/>
        <c:auto val="1"/>
        <c:lblAlgn val="ctr"/>
        <c:lblOffset val="100"/>
        <c:noMultiLvlLbl val="0"/>
      </c:catAx>
      <c:valAx>
        <c:axId val="63856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11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8EB-A5DD-4643-ADF9-9EC072E7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2F1-762C-4568-B57F-8900F327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D82-DA8C-4CA5-AD7A-FB147F8F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DF3-95D0-4A7F-9FA6-E5CBF4E1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768-6639-49AC-A179-801637C4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443-5F29-4180-A1B3-905B51B0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0E3-890D-4E92-8E99-822817E9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C79-BEE1-480F-848E-751AD4F4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065-2D42-4A79-97A2-7BFA7E9B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404-25F1-40B9-9F2A-8E90E916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D60-36BB-4E15-8136-FF492C30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185-0529-4912-9E68-7E5A50B6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CE5DD-23ED-4373-AE87-C27FE7AC6B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