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92768"/>
        <c:axId val="7549658"/>
      </c:barChart>
      <c:catAx>
        <c:axId val="34292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658"/>
        <c:crosses val="autoZero"/>
        <c:auto val="1"/>
        <c:lblAlgn val="ctr"/>
        <c:lblOffset val="100"/>
        <c:noMultiLvlLbl val="0"/>
      </c:catAx>
      <c:valAx>
        <c:axId val="7549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92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7D0-CBE6-4FB6-BDA1-007376D2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72C-78FD-41D6-B858-A1D05821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415-C0EF-4036-84E1-78326E57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C56-2BF1-4982-8B51-A11E81A8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DA8-383E-4AC1-85FA-F384212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607-7D8D-45D9-B787-158B78E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A64-7452-44EA-9B57-093CAC4D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073-BCAF-4B04-97BA-84EAD24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213-293A-4C89-9C8A-ABA26AA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859-8861-4CCE-ABB1-2C32710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749-A3EA-46DA-940A-056D4C2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602-9513-44D5-BED5-BBA7605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5473-DEA6-45DE-8B3B-692339627E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