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226469"/>
        <c:axId val="79830554"/>
      </c:barChart>
      <c:catAx>
        <c:axId val="852264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830554"/>
        <c:crosses val="autoZero"/>
        <c:auto val="1"/>
        <c:lblAlgn val="ctr"/>
        <c:lblOffset val="100"/>
        <c:noMultiLvlLbl val="0"/>
      </c:catAx>
      <c:valAx>
        <c:axId val="798305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2264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0872-34BF-488A-9750-85F722287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2712-60E9-41FD-AB17-5D42F4620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167C-BB28-438B-84B7-6AA8A0B0B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30F8-1E08-46E8-BDCD-617F30CAC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DA0A-7B23-4388-9B67-74B398D2C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4F6C-BB96-4BC9-98C9-D692745A4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C71B-E504-4A61-8C37-4E4B81313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F4FB-995C-437D-A095-146B060F8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D692-9D47-4F54-86B0-9467246F3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DDEC-B063-4189-AA37-B6F594AF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DB71-EB6A-4975-98F8-C3A80A7C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9E05-AF0B-4D63-B2F6-03D8A786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ED18EF-0626-4912-87CC-7B632064B20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