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348157"/>
        <c:axId val="9425473"/>
      </c:barChart>
      <c:catAx>
        <c:axId val="683481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5473"/>
        <c:crosses val="autoZero"/>
        <c:auto val="1"/>
        <c:lblAlgn val="ctr"/>
        <c:lblOffset val="100"/>
        <c:noMultiLvlLbl val="0"/>
      </c:catAx>
      <c:valAx>
        <c:axId val="94254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481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A099-0D03-465F-96E7-24EFA395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0C2C-336E-47D0-99E6-6B0BC3C7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BA37-5C22-42DA-88F0-77A1C0F4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AEE3-B13E-431E-BFA6-D3DF04C9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53B6-525B-466D-9E3F-DD59D2BC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CA37-87D1-4F0D-B16D-9172A524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3628-84C0-4865-B4AA-97FDCCF6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F356-A544-44BB-9B7F-F386490C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37B6-18B3-4ADE-A6F0-753DC2B6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1D98-F58C-481B-B13F-B21025AD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21B3-780F-49A8-A40F-7EBA518B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9B7-B3F4-4FFB-89A7-45B1ACDD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DCE94-8CF4-47F4-A9F3-510030D39C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