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17648"/>
        <c:axId val="94426399"/>
      </c:barChart>
      <c:catAx>
        <c:axId val="86817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26399"/>
        <c:crosses val="autoZero"/>
        <c:auto val="1"/>
        <c:lblAlgn val="ctr"/>
        <c:lblOffset val="100"/>
        <c:noMultiLvlLbl val="0"/>
      </c:catAx>
      <c:valAx>
        <c:axId val="94426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7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93F-C18B-481A-9FF5-A8238430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A7B-944E-4FAE-88D2-3243B77D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9F2-4068-4261-8BE7-53E84BF1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6B8-00E2-4C04-B8E3-B2EF8B12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B3B-BA78-4D6B-B79D-53F27B14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7D6-E74D-460B-9F89-D23278BD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C66-DA6E-4917-B8B2-DEA03370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50D-4811-40B1-9D5A-F9967183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816-BC9B-4384-9A6E-4FD823D7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085-D1AA-4153-80A8-4B5C93A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6C8-6337-454E-996C-748E551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EDA-709B-4BAC-9E9E-E402849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6331-F4D6-4D23-9477-5CC37CC1FD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