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386822"/>
        <c:axId val="51725343"/>
      </c:barChart>
      <c:catAx>
        <c:axId val="283868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725343"/>
        <c:crosses val="autoZero"/>
        <c:auto val="1"/>
        <c:lblAlgn val="ctr"/>
        <c:lblOffset val="100"/>
        <c:noMultiLvlLbl val="0"/>
      </c:catAx>
      <c:valAx>
        <c:axId val="517253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3868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FE2B-4C0A-481E-9797-40A0DFF4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44CC-AC8A-4484-B3AB-7DE55F1C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F681-3DD0-474D-A15D-C41F93D5A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9B54-40DD-4A4F-9471-03AAD4CD5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D398-E7E8-42FC-9599-3C48CECE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AC2F-02D5-47CD-B5C2-58AEC23B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3C36-37B5-419F-9DD9-2FC705D8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7C3D-3EFA-49F2-831C-5D9BFC2F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42D6-A2CB-4B54-B135-7D49ABAD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DE9E-0A47-4910-837E-C6624C34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22E4-534C-4D9E-83F7-5F9378F8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BF8A-9F04-455C-9310-DC89B924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1CEDA-1E77-4FF0-BE67-7575C255AD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