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EBC6C7-9D35-4BA5-86F1-91BFABAAD5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2303B5-CF13-4DC3-A1C1-02E12805CF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5D185E-86F4-47F9-B591-0ED4341333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3178CA-A067-46EF-A4F3-85A8C19D1D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37E3B3-411F-4081-9C9D-6FE92DFDB0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A1A74F-CBCF-4C0F-A3E6-6D079498B7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FBDB9-203C-4D46-AFC1-4457A6D896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01FBC6-8EA0-46D7-990B-D93A5D1501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DE6587-2CF6-42F5-BC1F-E52BA55B1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1F8F6-EE13-40D9-BE64-2E32ED2232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8AA71-DA4F-455E-9CD9-BFF2D3808B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CDC14-0E7C-4A47-A85B-A7E635997E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9BBA439-B39C-4518-956E-C512ED6EA9A8}" type="datetime">
              <a:rPr b="1" lang="zh-CN" sz="1200" spc="-1" strike="noStrike">
                <a:solidFill>
                  <a:srgbClr val="898989"/>
                </a:solidFill>
                <a:latin typeface="Calibri"/>
                <a:ea typeface="Calibri"/>
              </a:rPr>
              <a:t>26/7/30</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C6DF106-C06F-42CE-8E3A-36370F43EE2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64377F4-DD93-4F42-84D2-6323CD469CA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