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72799"/>
        <c:axId val="16972430"/>
      </c:barChart>
      <c:catAx>
        <c:axId val="45272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2430"/>
        <c:crosses val="autoZero"/>
        <c:auto val="1"/>
        <c:lblAlgn val="ctr"/>
        <c:lblOffset val="100"/>
        <c:noMultiLvlLbl val="0"/>
      </c:catAx>
      <c:valAx>
        <c:axId val="16972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72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85D-BF44-466C-B062-A091E4E9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6BF-3AFB-4D9D-8FAD-8E138B6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85D-51E8-482D-8C43-2C83FFF3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AAA-DBF8-407F-8682-FBB4EE2A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EE7-865B-4918-AE01-DB6C3C80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E7B-E2F4-4376-9539-7FFF5DE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79A-B7C9-4337-80DB-AC8826D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4E5-8E71-4773-B531-BB9AC1E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B97-62CA-47C6-B48A-E0FF05B5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4FA-4091-454F-9135-7CDB21C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F8E-129E-44BB-9AAC-3760C8C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46E-DF25-45F1-ACBF-ADBCF198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DC316-D5A7-4E52-81C2-978065671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