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84611"/>
        <c:axId val="48189252"/>
      </c:barChart>
      <c:catAx>
        <c:axId val="45284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89252"/>
        <c:crosses val="autoZero"/>
        <c:auto val="1"/>
        <c:lblAlgn val="ctr"/>
        <c:lblOffset val="100"/>
        <c:noMultiLvlLbl val="0"/>
      </c:catAx>
      <c:valAx>
        <c:axId val="48189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84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3E9-1560-405A-B2AA-F53AC654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2BF-C5AF-4186-A304-1CCE6B2B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04CA-A361-482D-AF64-922136C9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E55F-E9B9-4EB3-A097-CFF7DD55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320-6889-4E27-9DA4-646AC8B6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D11-A708-4B8A-B12B-4C237B3C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40AF-0E5E-4E31-AA9E-4CD27762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BBB-8446-432B-A26F-1BEAF9F9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C54F-1438-420E-85D8-DF83590E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D66C-3BF0-4624-90F4-D6F46EA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371-A8DD-4986-98FC-EEA68696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D06-D6AB-4DEE-8E5A-C692232D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9C47E-C688-477C-8C45-409E41834F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