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60168"/>
        <c:axId val="52363297"/>
      </c:barChart>
      <c:catAx>
        <c:axId val="63760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63297"/>
        <c:crosses val="autoZero"/>
        <c:auto val="1"/>
        <c:lblAlgn val="ctr"/>
        <c:lblOffset val="100"/>
        <c:noMultiLvlLbl val="0"/>
      </c:catAx>
      <c:valAx>
        <c:axId val="52363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60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22A-AFF9-439E-B1BC-7877EC8E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D73-FFD3-43D1-B7C7-C7600AE1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322-4D00-49C6-A7B9-42194C3C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625-E833-4724-8908-CA8CD3D3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AC0-185B-4A47-B644-020AEBA1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879-0989-45AD-9FB2-86E5064C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DE2-F65F-4C8B-AEC1-0A1F0E47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5E7B-3F86-4ABB-8155-04654160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501-E390-48F8-874C-32C9117B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5FA-E560-4512-B69B-EEF47F97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2C2-3DB5-4437-BC16-2209BED6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794-5093-459F-ACFC-C6F946D3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9802C-1682-4BF4-AC36-3E68A55971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