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73795"/>
        <c:axId val="79141430"/>
      </c:barChart>
      <c:catAx>
        <c:axId val="73773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1430"/>
        <c:crosses val="autoZero"/>
        <c:auto val="1"/>
        <c:lblAlgn val="ctr"/>
        <c:lblOffset val="100"/>
        <c:noMultiLvlLbl val="0"/>
      </c:catAx>
      <c:valAx>
        <c:axId val="79141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3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F9F-FBED-4136-A514-0B39B3DC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C01-A8D8-49D1-80F8-C5D9282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E6E-2408-4D1E-AC1F-CB4F1BDA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BAE-4683-49ED-A76C-FEED21DF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B79-E468-4060-B838-0FA31203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610-5966-4625-8969-70424A8A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74B-0808-4ECC-99A4-A4781D3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EAC-6A8A-4BF9-9CFE-4C4C6DE4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DE1-7402-4453-B9EE-677BADCE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FA1-47A2-4612-B836-CBDF341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D94-001D-40B6-A89D-0E5E0C1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734-951E-499D-A318-37DD572A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97232-8812-4839-A637-D40F278CDF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