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972"/>
        <c:axId val="21886574"/>
      </c:barChart>
      <c:catAx>
        <c:axId val="6687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86574"/>
        <c:crosses val="autoZero"/>
        <c:auto val="1"/>
        <c:lblAlgn val="ctr"/>
        <c:lblOffset val="100"/>
        <c:noMultiLvlLbl val="0"/>
      </c:catAx>
      <c:valAx>
        <c:axId val="21886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E59-4568-4AA3-AE82-D92D9BCB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36E-9CF7-4F7B-9969-4EE2006E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74E-16DF-4734-9C43-6E796226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4BE-770C-4F4A-A940-B77C51C7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419-EBC5-4F35-961F-455BA588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E2D-776C-4323-9D24-02FF09CF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465-6085-4821-909A-D9001B4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4FB-4E11-49FF-ACCD-B2FFD134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2E2-7179-4729-872E-3A3A34D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26C-F015-49EE-8B7A-205A390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091-7556-4DFE-8AF4-A3DF2B8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330-1CCE-4BE2-BA5C-1AA3825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9988-0C81-4315-A0AF-6C4AA9FF91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