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175453"/>
        <c:axId val="84783721"/>
      </c:barChart>
      <c:catAx>
        <c:axId val="111754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783721"/>
        <c:crosses val="autoZero"/>
        <c:auto val="1"/>
        <c:lblAlgn val="ctr"/>
        <c:lblOffset val="100"/>
        <c:noMultiLvlLbl val="0"/>
      </c:catAx>
      <c:valAx>
        <c:axId val="847837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1754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36F1-7B71-4E4B-B3A8-60A4C7E51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AB01-BF19-466A-9387-B4AA7AE8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0F88-A92A-426C-B314-950B88688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F7CA-46DC-4A31-B210-4F2BFD1BA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81A8-668D-4316-84ED-2E39F4DE7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BD43-CC9D-426D-9AA7-B6E574E7A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A461-97F9-44EC-8CB5-F7CA23267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3C4D-2482-4913-8073-D32C74F73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4FE9-C084-471D-B4BB-62238D202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DB98-0819-464A-A438-F97D538C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45DA-24A1-412A-AA2B-FF12F2D4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125B-23B9-459C-9E33-9448C559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9F0473-7707-4FD2-8609-FB607C67465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