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4622221"/>
        <c:axId val="10326500"/>
      </c:barChart>
      <c:catAx>
        <c:axId val="4462222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326500"/>
        <c:crosses val="autoZero"/>
        <c:auto val="1"/>
        <c:lblAlgn val="ctr"/>
        <c:lblOffset val="100"/>
        <c:noMultiLvlLbl val="0"/>
      </c:catAx>
      <c:valAx>
        <c:axId val="1032650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62222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F6D52-5CCC-456F-B354-8F036A4E0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F299D-82C4-40B3-A5C4-302322D81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E68A0-6A22-4AAD-9F8F-4D6B11716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4EE2A-FDAA-4AB0-97CF-035587B32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84FDD-F3A2-4662-81C9-FB00FA52F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88D81-A6EB-44EE-8B5E-0B76EBC69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8640B-F327-4524-9BBE-F3B8F121D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EDCB8-B011-4852-9E81-833596111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5020E-D914-48A1-A67C-2201C8BDA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4EA83-30DD-4126-9521-BCBAA2FE9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07624-E3C0-4AB9-9F5A-2D6140710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DEB81-5B20-44F0-AD3F-7CBAFD468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42D57C-DB4D-4637-954C-F2C5063CA86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