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486450"/>
        <c:axId val="35983326"/>
      </c:barChart>
      <c:catAx>
        <c:axId val="12486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83326"/>
        <c:crosses val="autoZero"/>
        <c:auto val="1"/>
        <c:lblAlgn val="ctr"/>
        <c:lblOffset val="100"/>
        <c:noMultiLvlLbl val="0"/>
      </c:catAx>
      <c:valAx>
        <c:axId val="35983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86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857-2373-405B-B4A1-56136493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3D5-FDFC-49B3-8222-CCB1EBC0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A2D-D52F-45A9-9147-D948470C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AA4-22B7-4D16-9FDD-975E5EC4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2AB-2421-4FFA-A9E6-C53C9975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B1C-CB57-4D13-B965-AA56579C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742-2A3C-45C6-B459-48418E4A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CEA-D092-436A-B2FA-DCB9B052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5AF-675A-4CB7-A7DC-E5DCB0C9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2D7-2181-4C89-BD47-D0A2FC9D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2B4-0772-4EA3-AAB5-57FB880E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913-2FBD-45A6-B20F-153E70D0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D06B8-B56A-4CB6-8374-95D9110DE7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