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76164"/>
        <c:axId val="65580028"/>
      </c:barChart>
      <c:catAx>
        <c:axId val="72976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0028"/>
        <c:crosses val="autoZero"/>
        <c:auto val="1"/>
        <c:lblAlgn val="ctr"/>
        <c:lblOffset val="100"/>
        <c:noMultiLvlLbl val="0"/>
      </c:catAx>
      <c:valAx>
        <c:axId val="65580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6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728-D1D1-4BDC-AFF9-95D6936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113-4FC6-42BF-8863-8C30E89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AF3-D08E-47B7-AD47-C2C4A87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C01-6A31-497D-A387-DBBA0501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093-9735-493F-B4C3-5CE8C66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525-56D3-49AF-833B-90763F7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6A1-1AE8-4E10-83D1-EA52E83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7C4-5C35-4444-AD13-8D689C51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CBF-CDFC-42D3-AE27-4F16CD6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DDD-2404-405C-B559-CABAC5D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A8A-7426-45A0-A07B-2EE38BE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1B5-9514-4215-8C82-9D7096B1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6C9FA-1CDE-4345-B523-85C559DE47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