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743592"/>
        <c:axId val="58970015"/>
      </c:barChart>
      <c:catAx>
        <c:axId val="727435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70015"/>
        <c:crosses val="autoZero"/>
        <c:auto val="1"/>
        <c:lblAlgn val="ctr"/>
        <c:lblOffset val="100"/>
        <c:noMultiLvlLbl val="0"/>
      </c:catAx>
      <c:valAx>
        <c:axId val="589700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7435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D91C-CE48-4FBC-A913-E9FBB5DB9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A7A3-2D50-460E-A92A-CF471BF9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5BA6-DCD8-480D-8959-7D92B6613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3AEC-7765-422C-8214-9B82AE760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2806-4BA4-450F-90D5-94AE6D8B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2322-CFFA-4A71-AEE6-43F008F8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B6EF-D4FB-4426-A109-95A5B5D5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56D8-5538-4C68-ABB8-BA0B5129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FC06-72A7-4642-88F8-BABE35B0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0B4D-1405-45A5-853B-D5EBA062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5061-0FEA-47D3-BDAA-0939F705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F88E-9C35-4BD5-A4DC-8D01925F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81ADA-8C01-4A82-B33B-6C4FDB3CFA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