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50785"/>
        <c:axId val="49673446"/>
      </c:barChart>
      <c:catAx>
        <c:axId val="39950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73446"/>
        <c:crosses val="autoZero"/>
        <c:auto val="1"/>
        <c:lblAlgn val="ctr"/>
        <c:lblOffset val="100"/>
        <c:noMultiLvlLbl val="0"/>
      </c:catAx>
      <c:valAx>
        <c:axId val="49673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50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370-6603-4456-B4A9-77F7AD2E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BDA-5BD9-4526-9932-216B808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19A-7C9E-4884-8727-AF8428B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31D-E302-4B5B-9508-55694F43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3F2-9F4E-4A23-8A21-FFEFE05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FB0-70A7-4D2D-B510-0F194FB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1E5-A704-49DE-B39C-7ABED321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BE1-BEC2-4AD5-BDEF-FB18FB4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6EC-7EEF-4124-8BDF-479D733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C45-00BC-4A39-BA28-5F61BA9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58B-D5ED-40C1-BC25-A535046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B7A-7A70-44DE-9319-964CD40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402B-E913-4382-9617-CF23E7C54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